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367963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A665-1722-4216-ADB5-15C98F68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9331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9120" y="1498680"/>
            <a:ext cx="9331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1226-C366-4F46-B3A9-B1AA6620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912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E4D-61FD-4D21-B0FB-AF41A71BF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74160" y="60480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29560" y="60480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120" y="149868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74160" y="149868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29560" y="1498680"/>
            <a:ext cx="300456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EC1-3B02-4AA5-B556-4692FEE5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9120" y="604800"/>
            <a:ext cx="933120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93C-A1D1-455A-B9B2-51DCD7F5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93312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874-F6E0-4D60-9D6E-44812EAE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117-E22C-4D63-871A-C375CAD7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7DE-47D7-402F-9D17-3EA03683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9120" y="102960"/>
            <a:ext cx="9331200" cy="200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7DE-C81D-450F-94CF-0C145CCF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912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437-C7D7-4BB9-B63A-50386830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149868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983-D3B7-4B81-967D-B62B1AA7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9120" y="-62640"/>
            <a:ext cx="9331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912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604800"/>
            <a:ext cx="455328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9120" y="1498680"/>
            <a:ext cx="93312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B6CD-EFDF-460E-A9FE-4CC20DD9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9120" y="102960"/>
            <a:ext cx="93312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9120" y="604800"/>
            <a:ext cx="93312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0000"/>
          </a:bodyPr>
          <a:p>
            <a:pPr marL="137160" indent="-13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7000" indent="-114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57200" indent="-91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40080" indent="-9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22960" indent="-91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22960" indent="-91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22960" indent="-914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9120" y="2360160"/>
            <a:ext cx="241920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2360160"/>
            <a:ext cx="328284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31120" y="2360160"/>
            <a:ext cx="2419200" cy="1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7A6F-CAE8-465B-B88B-978BC8D6F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3633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